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1224-AC6C-4C15-89ED-B613843046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D35D-3F1A-4808-B9A3-F0A7A42CAD5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1692-0B4D-4634-8919-6E7BB0AE73B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7D6E-C91A-4E4D-8F25-9025F7E457A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C8E-0BAD-4D1B-813C-67A884537E6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F89-F10D-4725-B9E2-8D8334E9343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2D5E-9ED9-4F0A-86D5-CD765AB327E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C5EB-BE1D-4322-9EFF-922C1D5858F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1A4A-4D89-4049-98D8-77FD92E96376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0564-16B1-4A6D-B032-68B142B71F46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6671-3F90-40A9-B10F-604DB2D6B20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D441-F843-4876-BF3C-57CB1E93356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A2CC-F58F-4D16-84BF-D3A2E1EB1A7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014-8F2F-40CF-AEF5-FF6F8BB49B0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BB8B-AC89-4683-8F52-987BC25610D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FE38-6050-4B36-8565-424E1CECF0C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9421-C21F-469E-ADF0-703174EBBED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8D75-3F02-46F7-8B0D-764E4E4D103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B918-607D-47F0-A368-38EB2E6BB84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DDDD-F407-45C4-B5B2-1D22A50235D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34F-9F03-4933-8648-67DE2416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8FD-7713-45D6-82D1-B216AE4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179-61B7-49AB-9E2D-F058E997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5DF-D132-4A1A-86B4-F7E156DA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5CC1-AD15-4E40-BE29-12155CD8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6172-5AFD-4003-BB25-338A78E9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4F90-5B02-498F-87A7-F263F63A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F01B-823A-48E9-84F5-1E5F1DA0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DFED-BA10-4870-94BE-D769796D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BF53-156A-444D-9121-A5C4041C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C0AA-C2BE-4F72-9D8C-D4939F87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BF0-AC0C-484D-8009-901A9A13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5FB2-73FB-4898-AD78-15E3C62D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34EB-516F-4615-8AEE-7A3AC44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56C6-6C7C-434A-94AA-BF49F506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B138-08A9-4B81-B272-69309BF0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F5E4-8017-425C-BDC8-97D72717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F26-2DE1-4600-BE0D-5E75638D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B56-964D-4E22-9946-8EEE757F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B7F-13FA-4C2B-88FF-52712575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59B-F003-4512-8ECE-0119E5EB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A6C-B9AF-4162-845E-F8775CA3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EC6-061B-41F4-B991-9ED97837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AEA-DD97-4873-B72B-8279401E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1453-2013-41B2-8DCF-904F7713E875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3F82-C949-4B07-8B70-8C697B97FA9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oblomov.omsk.edu/win/geroi/oblomov" TargetMode="External"/><Relationship Id="rId3" Type="http://schemas.openxmlformats.org/officeDocument/2006/relationships/hyperlink" Target="http://oblomov.omsk.edu/win/geroi/shtol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2680" y="1356840"/>
            <a:ext cx="623412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2f00"/>
                </a:solidFill>
                <a:latin typeface="Times New Roman"/>
              </a:rPr>
              <a:t>ОБЛОМОВ И ШТОЛЬЦ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5" descr="BS00554_"/>
          <p:cNvPicPr/>
          <p:nvPr/>
        </p:nvPicPr>
        <p:blipFill>
          <a:blip r:embed="rId1"/>
          <a:stretch/>
        </p:blipFill>
        <p:spPr>
          <a:xfrm>
            <a:off x="6156360" y="4508640"/>
            <a:ext cx="2376360" cy="207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189000"/>
          <a:ext cx="8569440" cy="6476760"/>
        </p:xfrm>
        <a:graphic>
          <a:graphicData uri="http://schemas.openxmlformats.org/drawingml/2006/table">
            <a:tbl>
              <a:tblPr/>
              <a:tblGrid>
                <a:gridCol w="4286160"/>
                <a:gridCol w="4283280"/>
              </a:tblGrid>
              <a:tr h="133056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43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Я – барин, и делать      ничего не умею.”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ка-идеал жизни. Любовь и        ласка родных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трудовое, практи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ческое воспитание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некому благос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ить”; возможность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самостоятельно определить свою дорогу жиз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56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Антипод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836640"/>
          <a:ext cx="9144000" cy="5769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Цель жизни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6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оэтический идеал жизни;” цель была -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вся жизнь есть мысль и труд”;   Сейчас:”Какая у меня цель? Нет её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руд-цель жизни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жизнь Штольца с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очки зрения Об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мова :”ежедневна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устая перетасовк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ней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2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798480"/>
          <a:ext cx="9144000" cy="6059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держание деятельности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ставление плана переустройства поместья; “вулканическая работа пылкой головы”;  “не привык к движению.”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Лишних движений у него не было”;”ехал посидеть на широком диване Обломова и отвести и успокоить встревоженную или усталую душу…”пустая су-ета, в итоге-“как будто жил вторично</a:t>
                      </a:r>
                      <a:r>
                        <a:rPr b="0" lang="en-US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Двойник в большей степе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692280"/>
          <a:ext cx="9144000" cy="59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тношение к женщине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е был их рабом, поклонялся издали”;”признавал е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власть и права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женщина-мать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икогда - любовница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Сама жизнь и труд есть цель жизни, а не женщина”;”он не хотел бы порывистой страсти, как не хотел её Обломов”; “ему грезилась мать - созида-тельница”; “не был рабом, не испытывал огненных радостей</a:t>
                      </a:r>
                      <a:r>
                        <a:rPr b="0" lang="en-US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.</a:t>
                      </a:r>
                      <a:endParaRPr b="0" lang="en-US" sz="2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0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Семейная жизнь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Жена, дети, добрые соседи, хлопоты по хозяйству – это в мечтах; “ему некуда больше идти, нечего искать, идеал его жизни осуществился, хотя без поэзии”-жизнь с Пшеницыной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астала и тишина,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улеглись и порывы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сё как мечтал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.” Устроенный Штольцем тихий уголок на крымском берегу напоминает старую Обломовку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728640"/>
          <a:ext cx="9144000" cy="6129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Жизненная позиция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“…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уша не рвётся, ум спит спокойно.</a:t>
                      </a:r>
                      <a:r>
                        <a:rPr b="0" lang="en-US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мы не титаны…мы не пойдём на дерзкую борьбу с мятежными вопросами, не примем их вызова, склоним головы и  смиренно переживем трудную минуту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ния отношений Обломова и Штольца (в форме графика)"/>
          <p:cNvPicPr/>
          <p:nvPr/>
        </p:nvPicPr>
        <p:blipFill>
          <a:blip r:embed="rId1"/>
          <a:stretch/>
        </p:blipFill>
        <p:spPr>
          <a:xfrm>
            <a:off x="2195640" y="836640"/>
            <a:ext cx="4752720" cy="30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547640" y="3933720"/>
          <a:ext cx="6840720" cy="274320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36828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Обломо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Штоль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146556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обрый, мягк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гостеприи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чувствительный, чутки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Ленив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Откровенный, холод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активный, разу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сдержанны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еятельн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916920"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Идеальным человеком принято считать того, у кого доминирующие качества не слишком ярко выражены (не доставляют проблем окружающим).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3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0920" y="691920"/>
            <a:ext cx="81565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бломов и Штольц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— люди с разным мировосприятием, а следовательно, и разными судьбами. Главное их отличие в том, что деятельный, энергичный Штольц сумел правильно распорядиться своей жизнью и природными талантами, пытаясь «донести сосуд жизни до последнего дня, не пролив ни одной капли напрасно». А у мягкого, доверчивого Обломова не хватало силы воли противостоять трудностям жизни и отстаивать свое право на существование и самореализацию. Он «свое уменье затерял еще в детстве, в Обломовке, среди теток, нянек и дядек. Началось с неуменья надевать чулки и кончилось неуменьем жить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2" descr="Кадр из фильма А. А. Адабашьяна и Н. С. Михалкова «Несколько дней из жизни И. И. Обломова». 1979-80"/>
          <p:cNvPicPr/>
          <p:nvPr/>
        </p:nvPicPr>
        <p:blipFill>
          <a:blip r:embed="rId1"/>
          <a:stretch/>
        </p:blipFill>
        <p:spPr>
          <a:xfrm>
            <a:off x="2627280" y="378936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267920"/>
            <a:ext cx="8370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ломов и Штольц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это два человека, которые друг без друга существовать не могут. Они дополняют друг друга своими как отрицательными, как и положительными качествами. Их судьбы похожи, они не могут найти свое место в жизн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Штольц на высокой ступени своей активной жизни оказывался тем же Обломовым…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a40400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Я.И.Кулешов.)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ь причины столь крепкой дружбы между двумя совершенно противоположными героям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ать описание главных героев романа И.А. Гончарова «Обломов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айти различные и схожие черты этих герое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ставить схему взаимоотношений Обломова и Штольца на протяжении развития действия  роман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лья Ильич Облом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81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мещик, дворянин, живущий в Петербурге. Ведёт ленивый образ жизни, не занимаясь ничем, кроме рассуждени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Жизнь есть поэзия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го не любишь, кто не хорош, с тем не обмакнёшь хлеба в солонк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Всё знаю, всё понимаю - но силы и воли не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Трудно быть умным и искренним в одно время, особенно в чувств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Страсть надо ограничить: задушить и утопить в женитьб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907920"/>
            <a:ext cx="81550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жить жизнь счастливо; так, чтобы она “не трогала”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осприятие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олеблющееся — от “приятного дара для наслаждения” до “пристает как забияки: то ущипнет исподтишка, то вдруг нагрянет прямо со лба и обсыплет песком… мочи нет!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Принципы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елать, что душа и сердце пожелает, даже если разум против; никогда не утруждатьс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Любовь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Никогда не была главной в его жизни, даже в истории с Ольгой она быстро угас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Дружба.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ще в юности “холодно простился с толпой друзей”. Есть знакомые, но нет ни одного настоящего друга, кроме Штольц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тношения с окружающими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Мало кому известен, имеет очень узкий круг общения. Сам практически никого не знает. Тем не менее, имеет знакомых, пытающихся вытащить его в свет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Больше всего боялся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всего трудного и труднодостижимого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stihi.ru/pics/2010/05/08/4169.jpg"/>
          <p:cNvPicPr/>
          <p:nvPr/>
        </p:nvPicPr>
        <p:blipFill>
          <a:blip r:embed="rId1"/>
          <a:stretch/>
        </p:blipFill>
        <p:spPr>
          <a:xfrm>
            <a:off x="4356000" y="2637000"/>
            <a:ext cx="453096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libvrn.ru/OZ/Graphic/book/01_2.jpg"/>
          <p:cNvPicPr/>
          <p:nvPr/>
        </p:nvPicPr>
        <p:blipFill>
          <a:blip r:embed="rId2"/>
          <a:stretch/>
        </p:blipFill>
        <p:spPr>
          <a:xfrm>
            <a:off x="250920" y="1052640"/>
            <a:ext cx="418932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proza.ru/pics/2009/05/06/855.jpg"/>
          <p:cNvPicPr/>
          <p:nvPr/>
        </p:nvPicPr>
        <p:blipFill>
          <a:blip r:embed="rId3"/>
          <a:stretch/>
        </p:blipFill>
        <p:spPr>
          <a:xfrm>
            <a:off x="0" y="0"/>
            <a:ext cx="555480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www.taday.ru/data/170/641/1234/19390_Oblomov_CD2_02.jpg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Штольц Андрей Иванови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915920"/>
            <a:ext cx="8137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руг детства Обломова, наполовину немец, практичный и деятельны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Это не жизнь, это какая-то... обломовщин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 (ч.2, гл.4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Труд - образ, содержание, стихия и цель жизни. По крайней мере, мое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“труд — образ, содержание, стихия и цель жизни, по крайней мере моей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Восприятие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жизнь — счастье в труде; жизнь без работы — не жизнь; «…“жизнь трогает!” “И слава богу!” — сказал Штольц»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Принципы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иметь “простой, то есть прямой, настоящий взгляд на жизнь — вот что было его постоянною задачею…”,“Выше всего он ставил настойчивость в достижении целей…”, “…измерит бездну или стену, и если нет верного средства одолеть, он отойдет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Любовь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Штольц любил не сердцем, а разумом, в каждом движении души и сердца искал рациональное объяснение. Поэтому и в молодости “среди увлечения чувствовал землю под ногой”, так как везде искал ум, а не страсть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Дружба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Друзей у Штольца всегда и везде было много — люди тянулись к нему. Но он чувствовал близость только к людям-личностям, искренним и порядочным. Действительно, настоящих друзей, таких как Илья Ильич и Ольга Сергеевна, у него было не так уж и много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Отношения с окружающими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Все знают его, он знает всех. Он никого не оставляет к себе равнодушным — его или уважают и ценят или боятся и ненавидят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Больше всего боялся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того, что ему непонятно или недоступно, и всячески обходил это: от страстей до воображения; но при любом подходящем случае пытался найти ключ к этому, пока непостижимому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live4fun.ru/pictures/img_37744038_8558_1.jpg"/>
          <p:cNvPicPr/>
          <p:nvPr/>
        </p:nvPicPr>
        <p:blipFill>
          <a:blip r:embed="rId1"/>
          <a:stretch/>
        </p:blipFill>
        <p:spPr>
          <a:xfrm>
            <a:off x="4335480" y="0"/>
            <a:ext cx="480852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www.ljplus.ru/img4/p/i/pics3000/Oblomov-2.avi_snapshot_00.52.38__2010.11.30_23.21.10_.jpg"/>
          <p:cNvPicPr/>
          <p:nvPr/>
        </p:nvPicPr>
        <p:blipFill>
          <a:blip r:embed="rId2"/>
          <a:stretch/>
        </p:blipFill>
        <p:spPr>
          <a:xfrm>
            <a:off x="4227480" y="3141720"/>
            <a:ext cx="4916520" cy="371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.labirint.ru/images/news/5541_1279280583.jpg"/>
          <p:cNvPicPr/>
          <p:nvPr/>
        </p:nvPicPr>
        <p:blipFill>
          <a:blip r:embed="rId3"/>
          <a:stretch/>
        </p:blipFill>
        <p:spPr>
          <a:xfrm>
            <a:off x="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Alexsandrit</cp:lastModifiedBy>
  <dcterms:modified xsi:type="dcterms:W3CDTF">2014-01-17T22:39:35Z</dcterms:modified>
  <cp:revision>30</cp:revision>
  <dc:subject/>
  <dc:title>ОБЛОМОВ И ШТОЛЬЦ</dc:title>
</cp:coreProperties>
</file>